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94AF-29DD-43CF-B41F-3FDA1784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BE35-2837-4681-9D9D-ECFEA05E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DDD15-EB7A-4224-B030-1649372B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5C27-EE6C-4208-BA61-AA92CEA0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DF8E-27B8-4F4D-B386-7DEDC4ED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713A-AA08-4D49-9DD7-BD8773F8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14A7-6B1B-4ED3-9E4E-41490DCA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2D9A-61A7-4362-8EAE-31926996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5D7E-477F-4FC2-9CB3-B2C7E8EE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8F7B-E8B8-4DE0-877C-DBA40C79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472B-1B91-4876-9947-DE8EAB0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61C0-E68E-4D1D-A54F-05869192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9BA6-6B23-4E80-9C3C-CF9F70A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B825-6DCE-4E1E-8F65-32C5E7D0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6F7A2-5382-4466-B1FE-52B543F5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6EF3-7DAE-4988-B47A-2B5F5E13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8C00-7539-4679-B6CD-A5053923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25BB-CAB8-4D69-8064-45A4865A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9054-F7C7-4B03-8118-B1A6D016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01CF-A156-4BD1-8ABE-6CB3E5E7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05EF-EFAF-4724-80FC-17D3E49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80AA-8411-4942-9FCB-D6F6727F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5F3C-80B8-4359-A4BA-4D4477F8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3ED1-4022-459D-8373-1C33C008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4F25-01A1-4038-B575-AD88C4B53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518E-E852-4CAA-B17E-4B747262E6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Private Pilot Certificat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heckride T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an a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of the flight planning (except for the weather) the day before the exa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professional from beginning to e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’re unsure of an instruction, as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ake your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c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instructor signed you off; you’re prepar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Seat Airplane ~$90/hr (60hr = $540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or ~$50/hr (35hr = $175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iner ~$3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ten Exam ~$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lies ~$4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tal: $7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s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y 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51 flight hours @ $85/hr ($433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0.5 hours instruction @ $60/hr ($18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ckride ($35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lies (~$4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ten Exam ($8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tal: $699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Should Bu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ads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ew book/practice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ts, AF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 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ight compu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el tes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leim kit has most of the abo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35179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main airpor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df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n get very busy with je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nd small aircraft traff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eat practice talking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 a tow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awren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v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Transpor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 runs to Bedford fr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ewife (Red Line to #7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764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communications practi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ots of practice sharing airsp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ts of airports for cross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train during the school y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 of Training in Bost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sy airsp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me flights may be delayed on the ground or in the traffic patter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ocales will have less expensive aircraf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a computer backup of your logb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lots of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d a pilot friend to ask if you don’t want to ask your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 as much as possible before the lesson slot be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eather brief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Plan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flight (if plane is availabl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re Sugg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mchair fly before and after each fl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member what you did well, and think about how to impro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you’re tired or not feeling well, take a brea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’t be afraid to cancel a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sten to liveatc.n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et more familiar with ATC and airport procedu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ar and critique yourself on the rad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y of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more you fly, the less time it takes to get your license (calendar time and logged flight time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estion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197000"/>
            <a:ext cx="82296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 Can 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 VFR weather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at any time, day or n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without an instructor approving your flightpla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y into/out of any civil U.S. Air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ry passeng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ssengers can pay up to their equal share of the flight co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Fl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41912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on the 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Class Medical Certific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ired for your first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t this early in your training or before you beg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Valid for 3 ye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0% or better on written ex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ke the exam as early as you c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am cannot be taken without an instructor’s write-o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quirements in the A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t least 40 hours of flight time (50-70 averag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0 hours with instruct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00nm start to finis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n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hours instru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 hours sol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hours cross count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568160" indent="-22392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ne flight over 150nm with three 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333440" y="2666880"/>
            <a:ext cx="5753160" cy="382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495680" cy="2992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956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 Typical Les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 hour blo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hour of maneuvers/skills practice near airpor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ep tur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flight/stall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strument fly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ergency procedur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of 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fferent types of takeoffs/landin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½ hour to park plane, debrief less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ther lessons may be ground school or longer flights (ex: cross countr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at You’ll Fl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Seater: Piper Tomahawk, Cessna 15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 Seater: Piper Warrior, Cessna 17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19320" y="3011400"/>
            <a:ext cx="579096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heckr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o par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al Exam cover flight planning, “what if” scenarios, aircraft system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ight Exam is just what it sounds lik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art a cross-country fligh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ic Flight Maneuv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attern wo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st pass every p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22:00:51Z</dcterms:created>
  <dc:creator>Jeremy Katz</dc:creator>
  <dc:description/>
  <dc:language>en-US</dc:language>
  <cp:lastModifiedBy>Jeremy Katz</cp:lastModifiedBy>
  <dcterms:modified xsi:type="dcterms:W3CDTF">2008-03-18T23:35:15Z</dcterms:modified>
  <cp:revision>23</cp:revision>
  <dc:subject/>
  <dc:title>Private Pilot Certificate</dc:title>
</cp:coreProperties>
</file>